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4BA1-070E-49F3-ACB6-AACACB0B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88D-B8A0-4635-819F-E3B69243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AB4-A53A-4C53-A8B0-E2B9D8CF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CB0-E473-4F45-9070-EFB6CEBA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B888-C069-4E59-BEF6-2F464F7E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BDD-C8E7-4889-B6DE-04C33117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53A5-F829-408B-9365-A98A26C6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DC7-03A2-49BD-93C0-518014FF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94E-164C-49A6-8879-33EF25C9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7A35-2DD0-42B8-9295-3CDE800A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B56-213D-4E91-B806-81C5813C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6027-9D48-4F11-8497-3D9990A5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9F6B-DC7C-4E32-8A46-9671E04C93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840" y="98280"/>
            <a:ext cx="7499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ff"/>
                </a:solidFill>
                <a:latin typeface="Comic Sans MS"/>
              </a:rPr>
              <a:t>Look these words up in a dictionary. Are they verbs, nouns, or adjectives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2120" y="679320"/>
            <a:ext cx="412776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o eat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o dance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lemona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funny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 painting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normo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o wal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 crocodi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 sing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dangero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laz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dangero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bana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09840" y="838080"/>
            <a:ext cx="0" cy="463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6600" y="631800"/>
            <a:ext cx="4146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Comic Sans MS"/>
              </a:rPr>
              <a:t>nouns                                    adjectiv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80120" y="622440"/>
            <a:ext cx="86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0000"/>
                </a:solidFill>
                <a:latin typeface="Comic Sans MS"/>
              </a:rPr>
              <a:t>verb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981680" y="771480"/>
            <a:ext cx="0" cy="463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32240" y="131760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eat - c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680" y="984240"/>
            <a:ext cx="24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 baile (m) -  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03800" y="1003320"/>
            <a:ext cx="19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ance- ba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7800" y="41400"/>
            <a:ext cx="5823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ff"/>
                </a:solidFill>
                <a:latin typeface="Comic Sans MS"/>
              </a:rPr>
              <a:t>jueves 1 marzo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ff"/>
                </a:solidFill>
                <a:latin typeface="Comic Sans MS"/>
              </a:rPr>
              <a:t>LI: To use a dictionary to find words and sort them to class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46280" y="993600"/>
            <a:ext cx="1936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unny  divertido 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ivertida 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6:50:19Z</dcterms:created>
  <dc:creator>Katy Oliver</dc:creator>
  <dc:description/>
  <dc:language>en-US</dc:language>
  <cp:lastModifiedBy>Katy Oliver</cp:lastModifiedBy>
  <dcterms:modified xsi:type="dcterms:W3CDTF">2012-03-02T06:50:22Z</dcterms:modified>
  <cp:revision>1</cp:revision>
  <dc:subject/>
  <dc:title>Slide 1</dc:title>
</cp:coreProperties>
</file>